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639-65F8-4C25-9C0D-3831FB10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316-92C8-400B-BCE9-94AA0127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5D97-EB54-4AA6-AD2E-608F9F20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D2B68-FB4F-4B2C-83D9-55B5F531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42E0C-961C-45D4-99DB-4CE724FF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92E39-9B5D-4433-BA9C-0AFD9D2C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7C25C-8057-4EF4-9CD2-FEF7D12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5906C-2540-4D4E-A63A-AF4DA9B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34287-1804-47FE-86FF-B95CD9C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7D3EF-931B-4719-BEDA-F10325C6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ACCD2-DBD0-41A2-80C4-FB69165B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251D9-7FEC-41DC-AF2B-7E9EC3FB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1CC-6592-4F1F-9068-F4B18CCC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3D326-B747-4875-892B-622B718D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9EF28-082F-4B2A-BFBB-7EFF8E28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3E183-66F0-4057-AADE-90E4A501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E87BC-5112-45B3-B99B-A0D24E60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125D4-5F35-4939-8426-E1279999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8CB78-300D-46A3-9476-9C81250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DF9AC-DD44-478D-9D9A-1236ADDD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B8580-CCD8-4BD9-BAB0-F4FBF55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1700D-4316-403E-BFB6-84552475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4300E-A746-4EDD-8CD4-77A622EF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9AF-1F41-4B5B-B11B-4BC91727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9FEA3-A2E9-443D-8526-A41619CB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E7656-FB20-453B-9403-04404674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26F11-4FB6-4C3C-80A6-4D97EA36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75149-1D71-4A9B-B4E0-055D7384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A692A-D02E-4296-A7A7-C4AEB466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107E9-5580-4D2A-B8E1-AF5BC594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5E9BE-02C8-4ECF-906D-5FBAA42F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48DF5-D450-485B-8C83-97533F35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4A106-35EE-4924-831C-6CF7D77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A452B-0A02-4396-9A37-0B63E1EB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1EFC-6C8D-41CB-82ED-CCDDA3E4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24F5-46EC-4E76-A5A5-854A314D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C688-6878-4AE4-90BA-C3337558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4DBF5-2A7F-4B67-A88F-A5C7AC09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E4F52-FA64-4A85-8C27-6767D9AA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94C9E-11E9-4DB7-A5CE-4A53470F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89099-DA4D-4DD9-8880-32488BC2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2D3DD-CE40-49AF-91C7-4CA10D1C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D5562-30AF-48A1-A5F2-2597910A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0E04A-3C33-4B00-81A5-A0EE4EE4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11D28-08E7-4C34-B1C8-0A6C7BED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BE42-9531-404B-B77E-921F3361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AD7DA-D6C6-4DFA-B78D-FF7034C4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047CA-4FC1-40F2-9D7D-541B970B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AB5CF-9007-424F-8042-253A71A4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BB786-7E58-48CF-A248-DCC2F1A2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189B9-9982-482A-ADAC-D7CA226B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8AB4D-F718-4180-B502-91F8EFB2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8EC2A-E319-4683-96F4-69420B6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9996C-6889-4342-8EBE-95A55A78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C85BE-094F-4E88-8E76-A00E1B8F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E4C3F-0C4A-4F30-911D-B209162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F447-233D-4A17-8199-6ABEA5F5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2F67B-0429-4633-8F87-071BDC6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4BD2EC-FB18-4149-AE3D-1C5B2180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5222A-6C0C-47E5-A086-5565CEA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BCA16-8F4A-4ED1-BBD5-DE3621CF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DD59D-9FE0-47AC-84E5-34A59C55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7B710-A42E-48C7-95DE-694F253B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00D06-7E05-4734-A23D-34925453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88781-F581-4614-B94F-F402B992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94410-3B62-41EF-887C-001E661E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903CC-1D35-4D35-99A3-D90EF783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E489-2B72-44E2-9DBE-FD587D4D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F1DD5-7E4D-4DF8-9B58-D553447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24DBE-4D59-4A8E-8836-84C1FAEB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487E3-E871-4772-A8C0-C3CD05CB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54834-D49A-4492-8710-F03C70F4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8A62C-1FC0-4B5B-8041-3CBE6F13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DD77C-D4C5-4E2C-B7E7-A7790C0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AB1A7-CCF4-4DA2-BABB-9F67B924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BEDE9-DAA5-4B59-BCE2-652FD53B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F02FE-DE58-4FD6-B03F-B5FA1698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8226-3210-4B62-ACC0-38AC1379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D16E-0DC4-4CD0-8834-4DDD4265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CBDE-2E36-483B-AF9A-D230859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7E1-43FC-424A-B945-AD091BAA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D7C2-7AD1-4B44-AB13-A4AB0A89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77BD-E49F-40AB-8411-18B99870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8F1B-1C59-47B2-8030-F72A9557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598A-1911-4F49-92CE-A7D0C1C5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0D30-5ADB-4798-8056-D5FD7236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3B8D-DDDE-464D-AE42-BCC77D66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4180-57B3-44B9-BD98-0410AEC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1155-716E-44C3-AE55-D11395E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5FFC-A7EB-4F41-B245-4BD16D1B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5630-AB5C-49F9-B24C-25A132B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9B8-889C-4E65-B412-A7F9A6E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519C0-5134-491B-B8A5-08E01A1D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99A3-DC04-4283-9F27-8A529656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677C-543E-4022-9D6B-D419DACE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F882-65A5-4C71-B1EB-6EB5E6BB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3B26-BC8B-4D1A-89EA-778EEDA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3FE0-62AB-433A-B656-BF12F3CE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821C-E42F-4B1C-81B2-F147A659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D4E26-B37C-467C-ADEA-4DF44F8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308578-56F5-403F-BCD9-546898FF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3B91D-449F-484F-8418-21F8FA72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F2A-BE72-4321-9B35-2464A5A3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D85B71-86A8-46A6-93DD-29BA07E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EAD5F-CF85-44D2-A468-0B87DDDE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52F0F-2D61-446F-8834-27F8743C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F01F9-765D-4B80-AD87-997CDB3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9518F-1433-4B79-A77C-B23C24C9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ECC55-5E0D-431C-9D2F-4B9EFFF3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A2ECB-9939-48CB-8AA2-72BE6FF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325BD-39C1-4297-AD5D-62961DBA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5DD5C7-46D0-4855-A684-2C46C24B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511E6-D40A-4EF0-8404-822505AF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5AE-63FF-4446-ADCF-0F2B9327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BA98-5254-4389-B8E7-FC8F5627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EFCB-F535-41C5-8600-FA80A2E5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4C33-FB0D-4387-B888-E5CE8F3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9F5B-F006-4DF1-A759-2C03096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EB6C1-9B02-4807-A3B5-F8ED609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2F77-68AB-437F-8D86-0D6FC63F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11FE-E364-4650-9D3F-FD43B34D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A5F7-27D4-4860-AF91-EA26566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BDFD-B77C-4C57-A27E-169C1726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B761-D986-4FEE-89DB-B05FE0B8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E62-BC15-42A1-BB50-8C32FAD7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97EB-417E-4477-9F91-753614DF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10160-305D-405F-9C76-70974E96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6A21F4-CF27-4B76-9F2C-F43DFC26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1D7A2-B842-4AD1-9943-DD03F425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74553-9163-4370-A7B1-B54B3665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B31EA-0C8E-4B21-B520-1BB433D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1AF2F-EBDC-4AD0-B60D-E4FD020B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8B1D1-4589-481F-BB94-DA4A8F3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D19A6-9C33-466F-8048-80E52378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2B8D0-DE06-49BC-8404-E487B2E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154-6514-4971-AD9F-21DA9BB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52FCC-B9A3-4EE2-85D6-A7B491CC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9ED04-59D9-4CDC-BD97-9A0EB906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81278-597A-4769-994B-950B88F1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A31F6-0FE8-481E-90CC-E901B47A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930E6-AB23-4D5A-8668-1946130A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D1DFF-8EFD-4F3D-BB6A-D66F7B2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7292B-A375-484A-949C-1B812413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040E3-4E71-452E-A9EF-617A63E4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44F80-AB89-4826-9885-5D4A9AE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86B17-781D-42D3-A19A-5EAB6A6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C56-F71F-4DB4-9ACA-36D37ADE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646CF-28DF-4991-942B-2641EF3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CFF5AE-6603-4C1E-BA1F-DF95956B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B625C-1A29-42BB-8873-EF644DF9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92AAC-A908-4954-8FBD-9D45D95F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D07A4-3732-413A-8787-EBF941A4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A9C96A-46DC-4047-8135-430575D4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2137F-03EB-49F3-836C-E4A9F573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E49E1D-3DAF-413F-861D-AF8997C1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B5038-0E3E-4682-AF07-25D2D321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C207C5-B608-42BA-9E35-FBD385E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EC1-6D1B-4E7F-8E76-E19B239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5B015-D467-4F27-ADDC-C1BE7C6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88990A-235C-4C5C-AD27-7F0F4F7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4997E-35AB-4350-818E-97684F2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7E385-189A-4076-8731-B10F9A5B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894DAB-0B4E-46E2-835D-080171E1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2ED879-ACE1-4612-B76B-6971D52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044FE1-08CA-4714-B1B6-A8A48D75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6F96-863F-4ECB-B89E-E55E3D70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5F015-F641-4268-97F9-9145CBC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929FC-10A3-4F9F-87BD-A19F615F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E6E7-9116-4508-8D8D-ED76AF02BDA1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tângulo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tângulo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Elipse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54" name="Elipse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Elipse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8C2-7DCE-4C28-AAA6-D019055A6825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C127-84C8-4A8F-822C-26D0BB2A0D4E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tângulo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tângulo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BFA-F05D-463D-9B98-8CFEA7A8149B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FB37-F268-4008-B7B1-29883D3346F0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Retângulo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24" name="Retângulo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Fluxograma: Processo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luxograma: Processo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B5D4-9FC4-4C87-8C89-A53620159F9E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osca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0" name="Rosca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2C65-E51A-4E2C-AF2E-A3D50421687F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F92E-A28A-44AE-8CA4-E8F66161298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94BC-8CE9-42ED-B486-7A5EE4C7E075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D64-7F9A-43AB-99DB-C78B868E5D46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5BBC-88D0-4F77-83E5-1E48817BCE48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7B01-A2C8-4276-87B4-F442E7BF2410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2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75DA-08F2-4B42-9D05-C6C753B0AB0B}" type="slidenum">
              <a:rPr b="1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izz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Elipse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Rosca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02" name="Rosca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tângulo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tângulo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Elipse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07" name="Elipse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Elipse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9127-0274-420A-ABEC-1432F5F78F83}" type="slidenum">
              <a:rPr b="0" lang="pt-B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85880" y="1213920"/>
            <a:ext cx="785808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OLLABORATIVE TEACHER DEVELOPMENT – CTD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(</a:t>
            </a:r>
            <a:r>
              <a:rPr b="1" lang="en-US" sz="2200" spc="-1" strike="noStrike">
                <a:solidFill>
                  <a:srgbClr val="575f6d"/>
                </a:solidFill>
                <a:latin typeface="Century Schoolbook"/>
              </a:rPr>
              <a:t>JOHNSTON, K. E. 2009)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575f6d"/>
                </a:solidFill>
                <a:latin typeface="Century Schoolbook"/>
              </a:rPr>
              <a:t>Disciplina: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400" spc="-1" strike="noStrike">
                <a:solidFill>
                  <a:srgbClr val="575f6d"/>
                </a:solidFill>
                <a:latin typeface="Century Schoolbook"/>
              </a:rPr>
              <a:t>Tópicos Especiais de Lingüística Aplicada: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575f6d"/>
                </a:solidFill>
                <a:latin typeface="Century Schoolbook"/>
              </a:rPr>
              <a:t>A formação do formador e do professor de língua estrangeira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575f6d"/>
                </a:solidFill>
                <a:latin typeface="Century Schoolbook"/>
              </a:rPr>
              <a:t>Docente: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400" spc="-1" strike="noStrike">
                <a:solidFill>
                  <a:srgbClr val="575f6d"/>
                </a:solidFill>
                <a:latin typeface="Century Schoolbook"/>
              </a:rPr>
              <a:t>Profa Dra Maria Helena Vieira Abrahã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575f6d"/>
                </a:solidFill>
                <a:latin typeface="Century Schoolbook"/>
              </a:rPr>
              <a:t>Discente:</a:t>
            </a:r>
            <a:r>
              <a:rPr b="1" lang="pt-BR" sz="1400" spc="-1" strike="noStrike">
                <a:solidFill>
                  <a:srgbClr val="575f6d"/>
                </a:solidFill>
                <a:latin typeface="Century Schoolbook"/>
              </a:rPr>
              <a:t> Azenaide Abreu Soares VIEIRA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71" name="Picture 5" descr="logo_unesp_variacao1"/>
          <p:cNvPicPr/>
          <p:nvPr/>
        </p:nvPicPr>
        <p:blipFill>
          <a:blip r:embed="rId1"/>
          <a:stretch/>
        </p:blipFill>
        <p:spPr>
          <a:xfrm>
            <a:off x="2771640" y="115920"/>
            <a:ext cx="3314880" cy="42876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6"/>
          <p:cNvSpPr/>
          <p:nvPr/>
        </p:nvSpPr>
        <p:spPr>
          <a:xfrm>
            <a:off x="900000" y="549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Instituto de Biociências, Letras e Ciências Exatas</a:t>
            </a:r>
            <a:br>
              <a:rPr sz="900"/>
            </a:b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Campus de São José do Rio Pre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C:\Users\azenaide\Pictures\Ciranda.png"/>
          <p:cNvPicPr/>
          <p:nvPr/>
        </p:nvPicPr>
        <p:blipFill>
          <a:blip r:embed="rId2"/>
          <a:stretch/>
        </p:blipFill>
        <p:spPr>
          <a:xfrm>
            <a:off x="214200" y="3500280"/>
            <a:ext cx="2857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57120" y="214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entury Schoolbook"/>
              </a:rPr>
              <a:t>GRUPO DE  ESTUDO </a:t>
            </a: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(comunidade de prática): é um instrumento colaborativo que favorece a interação entre os professor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entury Schoolbook"/>
              </a:rPr>
              <a:t>EQUIPE DE ENSINO</a:t>
            </a: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: possibilita o preparo de aulas de um grupo de professores, em que as experiências são compartilhadas e refletidas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entury Schoolbook"/>
              </a:rPr>
              <a:t>COLABORAÇÃO A DISTÂNCIA </a:t>
            </a: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(EDGE, 2006): Trata do desenvolvimento profissional mediado pelo computador, em que a cooperação é desenvolvida ao longo do processo. É fundamental para o desenvolvimento de profissionais que vivem em lugares de difícil acesso.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TD não se restringe aos exemplos apresentado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MUDANÇAS E ENCAMINHAMENTO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é uma opção vital no repertório do desenvolvimento profissional do professor de Língu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ofessores precisam compreender suas práticas, defender suas ideias e contribuições para não aceitarem imposições de outro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Todos envolvidos no processo educacional devem reconhecer o valor do CTD, no sentido de  entenderem a importância do que os professores faz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57480" y="1571760"/>
            <a:ext cx="80010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ANGUAGE TEACHER SUPERVISION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(Kathleen M. Bailey)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714240" y="4000680"/>
            <a:ext cx="8143920" cy="2374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Disciplina: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i="1" lang="pt-BR" sz="2600" spc="-1" strike="noStrike">
                <a:solidFill>
                  <a:srgbClr val="320e04"/>
                </a:solidFill>
                <a:latin typeface="Gill Sans MT"/>
              </a:rPr>
              <a:t>Tópicos Especiais de Linguística Aplicada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320e04"/>
                </a:solidFill>
                <a:latin typeface="Gill Sans MT"/>
              </a:rPr>
              <a:t>A formação do formador e do professor de língua estrangeira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Docente: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i="1" lang="pt-BR" sz="2600" spc="-1" strike="noStrike">
                <a:solidFill>
                  <a:srgbClr val="320e04"/>
                </a:solidFill>
                <a:latin typeface="Gill Sans MT"/>
              </a:rPr>
              <a:t>Profa Dra Maria Helena Vieira Abrahã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20e04"/>
                </a:solidFill>
                <a:latin typeface="Gill Sans MT"/>
              </a:rPr>
              <a:t>Discente:</a:t>
            </a:r>
            <a:r>
              <a:rPr b="0" lang="pt-BR" sz="2600" spc="-1" strike="noStrike">
                <a:solidFill>
                  <a:srgbClr val="320e04"/>
                </a:solidFill>
                <a:latin typeface="Gill Sans MT"/>
              </a:rPr>
              <a:t> Azenaide Abreu Soares VIEI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4" name="Picture 5" descr="logo_unesp_variacao1"/>
          <p:cNvPicPr/>
          <p:nvPr/>
        </p:nvPicPr>
        <p:blipFill>
          <a:blip r:embed="rId1"/>
          <a:stretch/>
        </p:blipFill>
        <p:spPr>
          <a:xfrm>
            <a:off x="2771640" y="115920"/>
            <a:ext cx="3314880" cy="4287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6"/>
          <p:cNvSpPr/>
          <p:nvPr/>
        </p:nvSpPr>
        <p:spPr>
          <a:xfrm>
            <a:off x="900000" y="549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e7dec9"/>
                </a:solidFill>
                <a:latin typeface="Century Schoolbook"/>
              </a:rPr>
              <a:t>Instituto de Biociências, Letras e Ciências Exatas</a:t>
            </a:r>
            <a:br>
              <a:rPr sz="900"/>
            </a:br>
            <a:r>
              <a:rPr b="1" lang="pt-BR" sz="900" spc="-1" strike="noStrike">
                <a:solidFill>
                  <a:srgbClr val="e7dec9"/>
                </a:solidFill>
                <a:latin typeface="Century Schoolbook"/>
              </a:rPr>
              <a:t>Campus de São José do Rio Pre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" descr="C:\Users\azenaide\Pictures\webquest.png"/>
          <p:cNvPicPr/>
          <p:nvPr/>
        </p:nvPicPr>
        <p:blipFill>
          <a:blip r:embed="rId2"/>
          <a:stretch/>
        </p:blipFill>
        <p:spPr>
          <a:xfrm>
            <a:off x="6095880" y="1285920"/>
            <a:ext cx="30481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TIVOS DO TEX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9968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Discutir algumas questões chave sobre supervisão de professores de Língua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finir supervisã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ferecer uma breve revisão da literatura sobre supervisã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Apresentar algumas questões problemáticas e possíveis encaminhamentos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Apresentar sugestões para leituras sobre supervisã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DELIMITAÇÃO E DEFINIÇÕES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Supervisão é definida como de responsabilidade e função organizacional focada na avaliação e refinamento de práticas correntes (GOLDSBERRY, 1988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Supervisão é um processo de revisão de habilidade de pessoas, a fim de alcançar as metas estabelecidas pelo órgão em que trabalham (DARESH, 2001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o ensino de Línguas, supervisão é definida como o processo de desenvolvimento do professor de línguas em que o supervisor observa suas aulas, tendo em mente os objetivos institucionais (GEBHARD, 1990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É a função que alguém tem de monitorar e melhorar a qualidade do ensino de outros colegas em uma situação educacional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r>
              <a:rPr b="0" lang="pt-BR" sz="4000" spc="-1" strike="noStrike">
                <a:solidFill>
                  <a:srgbClr val="575f6d"/>
                </a:solidFill>
                <a:latin typeface="Century Schoolbook"/>
              </a:rPr>
              <a:t>REVISÃO DA LITERATUR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KNOP (1980): apresenta a 1. abordagem científica; 2. democrática; e 3. supervisão clínic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1. Na Abordagem Científica, o trabalho de supervisão parte da análise de interações para investigar comportamentos em sala de aula e o desenvolvimento de competências pelo professor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2. A Abordagem Democrática vê o trabalho de supervisão como uma terapi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3. Na supervisão Clínica o professor e o supervisor decidem juntos os objetivos que têm a alcançar e os caminhos metodológicos que trilharã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575f6d"/>
                </a:solidFill>
                <a:latin typeface="Century Schoolbook"/>
              </a:rPr>
              <a:t>REVISÃO DA LITERATUR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2840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REEMAN (1982, 1989) – 03 modelos de supervisã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DIRETIVA: modelo tradicional de supervisão, em que o supervisor é visto como um especialista que dá a solução ao problemas (poder no supervisor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ÃO DIRETIVA: o supervisor ouve o professor  sem fazer julgamento. O mesmo interpreta como o professor trabalha e o ajuda a tomar decisões (professor tem o direito de falar e tomar decisão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LTERNATIVA: o supervisor sugere alternativas e ajuda o professor naquilo que ele está desenvolvendo (discussão de tópicos e decisões são negociada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75f6d"/>
                </a:solidFill>
                <a:latin typeface="Century Schoolbook"/>
              </a:rPr>
              <a:t>REVISÃO DA LITERATURA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GEBHARD (1984) - 05 modelos de supervisã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DIRE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NÃO-DIRE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ALTERNATIV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OLABORATIVA: O supervisor participa ativamente em todas as decisões que são tomadas durante o processo. Ele trabalha junto com o professor, mas não o conduz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RIATIVA: Ele precisa atender as necessidades do professor, de acordo com a realidade e o contexto de atuação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575f6d"/>
                </a:solidFill>
                <a:latin typeface="Century Schoolbook"/>
              </a:rPr>
              <a:t>ABORDAGENS E PRÁTICAS CONTEMPORÂNEAS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357120" y="107136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papel da supervisão atualmente é ajudar professores iniciantes a desenvolver competência profissional, mediante reflexão sobre sua prática conforme problemas encontrados em sala de aula (GEBHARD, 1990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supervisor não é mais um especialista e sim um colega que encoraja o professor a praticar a reflexão (CHAMBERLIN, 2000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trabalho do supervisão passa a focar o pensamento do professor sobre ensino mais do que sua forma atual de ensinar  (GOLDSBERRY, 1988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ABORDAGENS E PRÁTICAS CONTEMPORÂNEAS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Há duas (02) forças de trabalho em vigor para promover a qualidade no ensino de línguas atualmente:  forças sociais e forças individuai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1. Forças sociais são ações governamentais e ações institucionai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2. forças individuais: são tendências individuais que conduzem à prática reflexiva, em que professores se responsabilizam por seu desenvolvimento profissional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É nesse contexto variantes que o supervisor do professor de língua atua para melhorar o ensino, de acordo com objetivos mais ampl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TIVOS DO TEX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Oferecer a definição de CTD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Sugerir possíveis respostas ao questionamento de quem colabora com qu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ntroduzir modelos utilizados para estruturar o desenvolvimento colaborativ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Mencionar algumas técnicas e métodos geralmente utilizados em CTD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ENCAMINHAMENTOS E DIREÇÕES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os últimos anos têm se preocupado em compreender  como o professor aprende e muda, a fim de que haja uma supervisão mais eficaz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literatura recente sobre supervisão tem sido influenciada pela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nálise do discurso: para investigar a língua em us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eoria sociocultural: para compreender a forma como o professor aprende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ecnologia: para coletar informações de aula e discutir os dado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ANÁLISE DO DISCURSO E SUPERVISÃO DO PROFESSOR DE LÍNGUA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WAJNRYB (1994; 1998): verificou que supervisores geralmente atenuam o discurso de professores e professores formadores. Percebeu em seus dados três estratégias de ênfase no discurso: sintática, semântica e ênfase indiret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mudança verificada no perfil do supervisor de professor de língua é em relação a criticidade. Nesse sentido os supervisores devem ser gentis para que professores possam ouvir e compreender a mensag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ANÁLISE DO DISCURSO E SUPERVISÃO DO PROFESSOR DE LÍNGUA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WILLIAMS E WATSON (2004): contrastaram o discurso de três professores formadores, em um momento de feedback, logo após o desenvolvimento de uma atividade. O autores perceberam que observar o discurso e a auto-avaliação dos participantes, podem promover  a reflexão por parte dos formador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ILLER (2008): analisou e.mails trocados entre ela e um falante Chinês nativo, que estava inscrito em um programa de formação de professores de Língua Inglesa na Austrália. Miller observou que tanto suas experiências como as teorias acadêmicas embasam o professor em suas respost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TEORIA SOCIOCULTURAL </a:t>
            </a:r>
            <a:r>
              <a:rPr b="0" lang="pt-BR" sz="3200" spc="-1" strike="noStrike">
                <a:solidFill>
                  <a:srgbClr val="575f6d"/>
                </a:solidFill>
                <a:latin typeface="Century Schoolbook"/>
              </a:rPr>
              <a:t>E</a:t>
            </a: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 SUPERVISÃO DO PROFESSOR DE LÍNGUA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 influência da teoria sociocultural vem da Psicologia Educaciona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VAN LIER (1995); há uma variedade de habilidades e conhecimentos que podem ser construídas pela assistência de uma outra pessoa (ZDP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RUEDA (1998): ambientes institucionais efetivo de aprendizagem dependem de quanto os profissionais são preparados para manter o desenvolvimento profissional de professore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Rueda enfatiza que o relacionamento entre professor e supervisor não pode ser unilateral. Supervisores devem aprender com professores e vice-vers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2840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05 PRINCÍPIOS DA TEORIA SOCIOCULTURAL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2840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O ensino e aprendizagem são ações sociais e não individuais. A aprendizagem pode ocorrer quando problemas são resolvidos entre professores experientes e iniciantes em trabalho coletivo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Professores supervisores podem ser promotores de aprendizagem. A língua é vista como uma importante ferramenta para mediar a interação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Possibilita contextualizar ensino, aprendizagem e atividades produzidas coletivamente nas experiências e habilidades dos participantes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As atividades devem mudar do mais simples para o mais complexo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entury Schoolbook"/>
              </a:rPr>
              <a:t>Contribuir para engajar os participantes em diálogo, especialmente em conversas instrucionais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28400" y="-143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75f6d"/>
                </a:solidFill>
                <a:latin typeface="Century Schoolbook"/>
              </a:rPr>
              <a:t>TECNOLOGIA E SUPERVISÃO DO PROFESSOR DE LÍNGUA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TAILÂNDIA: professores em pré-serviço usam a comunicação pela internet  para manter contato com seus supervisores (HSIUNG E TAN, 1999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NEBRASKA: professores em pré-serviço mantêm gravações das aulas que observam. Tais gravações são usadas pelo supervisor para fomentar discussõe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INDIA: Discussões em grupo por e.mails, webcams e páginas na web são utilizadas por supervisores em curso de aperfeiçoamento docen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GEORGIA (USA): supervisores usam videoconferência para observar professores a distância e promover interação entre professores e supervisores, assim como professores em serviço e em pré-serviç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CONSIDERAÇÕES FINA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assamos por diferentes abordagens para supervisã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abordagem reflexiva tem emergido como dominante (WALLACE, 199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Princípios da teoria sociocultural e da análise do discurso oferece aos professores caminhos para melhorar a prática de supervisão de professores de língua. A tecnologia colabora com o registro das interações e para promover a reflexão-sobre-a-açã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28800" y="1785600"/>
            <a:ext cx="8215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575f6d"/>
                </a:solidFill>
                <a:latin typeface="Century Schoolbook"/>
              </a:rPr>
              <a:t>BUILD IT AND THEY WILL COME: REALISING VALUES IN ESOL TEACHER EDUCATION (</a:t>
            </a:r>
            <a:r>
              <a:rPr b="1" lang="pt-BR" sz="2200" spc="-1" strike="noStrike">
                <a:solidFill>
                  <a:srgbClr val="575f6d"/>
                </a:solidFill>
                <a:latin typeface="Century Schoolbook"/>
              </a:rPr>
              <a:t>JULIAN EDGE, 2005)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1285920" y="4000680"/>
            <a:ext cx="7572240" cy="23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75f6d"/>
                </a:solidFill>
                <a:latin typeface="Century Schoolbook"/>
              </a:rPr>
              <a:t>Disciplina: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800" spc="-1" strike="noStrike">
                <a:solidFill>
                  <a:srgbClr val="575f6d"/>
                </a:solidFill>
                <a:latin typeface="Century Schoolbook"/>
              </a:rPr>
              <a:t>Tópicos Especiais de Lingüística Aplicada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575f6d"/>
                </a:solidFill>
                <a:latin typeface="Century Schoolbook"/>
              </a:rPr>
              <a:t>A formação do formador e do professor de língua estrangeira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75f6d"/>
                </a:solidFill>
                <a:latin typeface="Century Schoolbook"/>
              </a:rPr>
              <a:t>Docente: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pt-BR" sz="1800" spc="-1" strike="noStrike">
                <a:solidFill>
                  <a:srgbClr val="575f6d"/>
                </a:solidFill>
                <a:latin typeface="Century Schoolbook"/>
              </a:rPr>
              <a:t>Profa Dra Maria Helena Vieira Abrahã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575f6d"/>
                </a:solidFill>
                <a:latin typeface="Century Schoolbook"/>
              </a:rPr>
              <a:t>Discente:</a:t>
            </a: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 Azenaide Abreu Soares VIEI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27" name="Picture 5" descr="logo_unesp_variacao1"/>
          <p:cNvPicPr/>
          <p:nvPr/>
        </p:nvPicPr>
        <p:blipFill>
          <a:blip r:embed="rId1"/>
          <a:stretch/>
        </p:blipFill>
        <p:spPr>
          <a:xfrm>
            <a:off x="2771640" y="115920"/>
            <a:ext cx="3314880" cy="42876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6"/>
          <p:cNvSpPr/>
          <p:nvPr/>
        </p:nvSpPr>
        <p:spPr>
          <a:xfrm>
            <a:off x="900000" y="54936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Instituto de Biociências, Letras e Ciências Exatas</a:t>
            </a:r>
            <a:br>
              <a:rPr sz="900"/>
            </a:br>
            <a:r>
              <a:rPr b="1" lang="pt-BR" sz="900" spc="-1" strike="noStrike">
                <a:solidFill>
                  <a:srgbClr val="fff39d"/>
                </a:solidFill>
                <a:latin typeface="Century Schoolbook"/>
              </a:rPr>
              <a:t>Campus de São José do Rio Pre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OBJETIVOS DO TEXT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sboçar um horizonte mais amplo sobre colaboração em programa de formação de professores de língua como segunda língu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presentar alguns trabalhos (de sua autoria) que trata da abordagem colabor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UM HORIZONTE MAIO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9968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Passou a ser formador de professores nos anos 70 do século passado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Compreende que é não apenas o que ele diz; mas também o que ele faz; e como faz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Entende o professor de língua inglesa como uma pessoa que transmite valores no campo político, econômico, militar e cultural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VALORES POLÍTICOS – governante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ECONÔMICO: comercialização e globalizaçã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MILITAR: guerra do Iraque, ataque ao World Trade Cent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CULTURAL: desvalorização da mulh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7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ÇÃ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ntes o desenvolvimento do professor era visto como algo isolad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tualmente o paradigma CTD compreende o desenvolvimento do professor como sendo desencadeado pela colaboração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A aprendizagem do professor é compreendida como um processo social fundament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concebe o desenvolvimento do professor como um processo individual e soci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57120" y="142884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Edge traz uma mensagem de liberdade, igualdade e comunidad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LIBERDADE: conquistada por cada professor para se responsabilizar em fazer o melhor, independente  de métodos e técnicas. Trata de uma liberdade que deve ser conquistada. Liberdade não é algo que alguém pode dar; liberdade é algo que as pessoas conquistam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Adota uma abordagem de pesquisa-ação. Acredita que o professor (ele) é o construtor de conhecimento primário, ou seja, ele sabe como seus alunos aprendem, os especialistas nã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UM HORIZONTE MAIOR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A AQUEC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urante 10 anos (1992/2002) presenciou conferências em que uma pessoa fala e os demais compreend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ideia era de que a interação envolvia um orador e espectadore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m 2002 apresentou esboço detalhado da abordagem cooperativa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sde de então desenvolve pesquisas, cujo propósito é desenvolver senso de comunidades colaborativa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SUA PESQUISA COLABORATIV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articipantes: professores formadores  (colegas de trabalho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m suas observações acompanhou  o processo reflexiv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 medida em que os participantes declaravam ações que gostariam de desenvolver, as ideias se mostravam mais articulada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ercebeu que a reflexão leva para um foco mais complexo e articulado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s participantes usavam experiências pessoais e pensamentos para compreender suas dificuldades e objetivos profissionais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partir da percepção de limitações, os pensamentos evoluem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sessões de diálogo colaborativo possibilita a descoberta de estratégias para superação de limitações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CONSIDERAÇÕES FINAI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99680" y="1142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ANKS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42" name="Espaço Reservado para Conteúdo 3" descr="Chat.jpg"/>
          <p:cNvPicPr/>
          <p:nvPr/>
        </p:nvPicPr>
        <p:blipFill>
          <a:blip r:embed="rId1"/>
          <a:stretch/>
        </p:blipFill>
        <p:spPr>
          <a:xfrm>
            <a:off x="2454120" y="2879640"/>
            <a:ext cx="40420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28400" y="-357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575f6d"/>
                </a:solidFill>
                <a:latin typeface="Century Schoolbook"/>
              </a:rPr>
              <a:t>DEFINIÇÃO DE CTD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28400" y="1000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...trata de uma investigação embasada e sistematizada sobre ensino e aprendizagem, em que um professor voluntariamente colabora com outros professores envolvidos  no processo de ensino, cujo foco principal é o desenvolvimento profissional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CTD compreende o desenvolvimento profissional não apenas como um produto de outros processos de desenvolvimento. Ele é construído pelos profissionais como um componente central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entury Schoolbook"/>
              </a:rPr>
              <a:t>O PROFESSOR É O NÚCLEO DO CT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QUEM COLABORA COM QUEM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28400" y="1071360"/>
            <a:ext cx="8258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04 possibilidades de colaboração em cenário educaciona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1. Professor pode colaborar com seus colegas de trabalho (outros professores de Língua), compartilhamento de material, aulas, experiências etc...O fato de compartilharem de algumas características similares (contextos, alunos) favorece o processo de desenvolvimento profission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2. A colaboração pode ocorrer entre professores da educação básica e resultados de pesquisas científicas (universidade e escola). Nesse caso a colaboração pode ser mais teoricamente embasada e contribui para aumentar o interesse do professor em teorizar sua prátic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968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QUEM COLABORA COM QU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3. O professor pode colaborar com seus alunos. É uma importante posição filosófica, que coloca o aluno como participante importante do processo e favorece a pedagogia crítica, na qual ressalta a importância de se ter o aprendiz como participante principal no process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4. O professor pode colaborar com os demais envolvidos no processo (outros professores, gestores, pais, coordenadores, autores de material didático; 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575f6d"/>
                </a:solidFill>
                <a:latin typeface="Century Schoolbook"/>
              </a:rPr>
              <a:t>ABORDAGENS E PRÁTICAS CONTEMPORÂNEAS</a:t>
            </a:r>
            <a:br>
              <a:rPr sz="26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não é uma metodologia particular, um sistema, ou teoria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TD são valores e certas atitudes que permeiam o ensino e o desenvolvimento de professores. Mas esses valores não são associados com nenhum método em particul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pt-BR" sz="2000" spc="-1" strike="noStrike">
                <a:solidFill>
                  <a:srgbClr val="575f6d"/>
                </a:solidFill>
                <a:latin typeface="Century Schoolbook"/>
              </a:rPr>
              <a:t>ESTRUTURA DO DESENVOLVIMENTO COLABORATIVO</a:t>
            </a:r>
            <a:br>
              <a:rPr sz="27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28400" y="1071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PESQUISA-AÇÃO: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pode ser conduzida em trabalhos individuais de professores com o objetivo de mudar ou entender suas aulas e contextos. Tem como pano de fundo a ação colaborativa (BURNS, 1999). A pesquisa-ação contribui para o crescimento individual profissional. Trata de pesquisa com pessoas e não sobre pessoa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NARRATIVAS: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a narrativa é um recurso importante para o crescimento profissional, pois são histórias de professores sobre suas experiências de ensino. A narrativa é considerada CTD pelo fato de envolver dois profissionais: um que relata suas experiências e outro que as ouve.  Ambos podem aprender de forma coletiva ou individu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428400" y="9288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DESENVOLVIMENTO COOPERATIVO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: assim como nas narrativas e na pesquisa-ação, há necessidade de um profissional que fala e outro que compreende. A cooperação envolve pares de professores dispostos a investigar sua prática docent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PRÁTICA EXPLORATÓRIA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(ALLWRIGHT, 2003):  trata da investigação realizada pelo professor de sua própria prática, em contexto autêntico de aula. O professor passa a ser pesquisador e investigador de sua própria prática. A prática exploratória envolve a colaboração entre professor e alunos e professor/professor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entury Schoolbook"/>
              </a:rPr>
              <a:t>JORNAL DIALOGADO </a:t>
            </a: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(BURTON E CARROLL, 2001): Tem uma natureza colaborativa, é uma ferramenta poderosa para o desenvolvimento de professor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2:13:30Z</dcterms:created>
  <dc:creator>azenaide</dc:creator>
  <dc:description/>
  <dc:language>en-US</dc:language>
  <cp:lastModifiedBy>azenaide</cp:lastModifiedBy>
  <dcterms:modified xsi:type="dcterms:W3CDTF">2010-06-23T12:01:33Z</dcterms:modified>
  <cp:revision>56</cp:revision>
  <dc:subject/>
  <dc:title>Slide 1</dc:title>
</cp:coreProperties>
</file>